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7D1-9904-43C4-A920-D029DC98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49B-C232-4B89-BAF1-D780DE5A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1CC-E966-428C-8AD7-34C480D3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2CF-0D2B-45FC-8031-42C785C0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36B-B0A5-4D4B-ABF1-CD1B5F56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5AB-9886-4102-BC38-6C7C4FA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084-6A88-4BFD-A760-E6E36EC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40C-111A-469B-AFFC-F7F7022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C25-A85D-430F-BF6E-89C905FF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028-1E20-4CB2-A45D-CAA2616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A1F-C9A8-459F-A7CE-DCC369C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2C4-18B7-4066-AC53-D0FF3206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656A-0AC5-480B-ADDD-6889BCA02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1:02:53Z</dcterms:created>
  <dc:creator>David Goebelbecker</dc:creator>
  <dc:description>Copyright © Kidco Labs. All rights reserved.</dc:description>
  <dc:language>en-US</dc:language>
  <cp:lastModifiedBy>David Goebelbecker</cp:lastModifiedBy>
  <cp:lastPrinted>2009-03-19T21:39:27Z</cp:lastPrinted>
  <dcterms:modified xsi:type="dcterms:W3CDTF">2009-03-19T21:41:52Z</dcterms:modified>
  <cp:revision>6</cp:revision>
  <dc:subject>Wild Animal Adventures - Week 1 Memory Verse</dc:subject>
  <dc:title>PowerPoint Presentation</dc:title>
</cp:coreProperties>
</file>