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1F83-412C-4AA6-BE29-A75288C9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A939-D7B6-495B-A4A7-7D35E509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A567-CCEC-4476-BFD9-5E24CF3B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6A21-A315-42AB-A6A3-BA3686CE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C94B-BDD1-44C3-A9D2-B00D515D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6898-C724-4A1C-A38A-DC1B45C8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0C01-263B-4704-8D6A-E958E308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B825-9523-4ACA-8F2B-BD9C62F6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7FD5-354A-4A16-9FC1-03D296B4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82F3-1E4F-476A-9F05-5773FD92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0FFD-CFE6-4842-8B51-8425E10F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8B37-FF3C-4078-B64B-86BD467B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D417-A545-44E5-B92F-0E5511506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" Target="slide14.xml"/><Relationship Id="rId4" Type="http://schemas.openxmlformats.org/officeDocument/2006/relationships/image" Target="../media/image5.pn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" Target="slide14.xml"/><Relationship Id="rId4" Type="http://schemas.openxmlformats.org/officeDocument/2006/relationships/image" Target="../media/image5.pn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" Target="slide14.xml"/><Relationship Id="rId4" Type="http://schemas.openxmlformats.org/officeDocument/2006/relationships/image" Target="../media/image5.pn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" Target="slide14.xml"/><Relationship Id="rId4" Type="http://schemas.openxmlformats.org/officeDocument/2006/relationships/image" Target="../media/image5.pn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" Target="slide3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14.xml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14.xml"/><Relationship Id="rId4" Type="http://schemas.openxmlformats.org/officeDocument/2006/relationships/image" Target="../media/image5.pn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" Target="slide14.xml"/><Relationship Id="rId4" Type="http://schemas.openxmlformats.org/officeDocument/2006/relationships/image" Target="../media/image5.pn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" Target="slide14.xml"/><Relationship Id="rId4" Type="http://schemas.openxmlformats.org/officeDocument/2006/relationships/image" Target="../media/image5.pn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" Target="slide14.xml"/><Relationship Id="rId4" Type="http://schemas.openxmlformats.org/officeDocument/2006/relationships/image" Target="../media/image5.pn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0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5181480"/>
            <a:ext cx="993600" cy="993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8080" y="5181480"/>
            <a:ext cx="99396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3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5181480"/>
            <a:ext cx="993600" cy="993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8080" y="5181480"/>
            <a:ext cx="99396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0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5181480"/>
            <a:ext cx="993600" cy="993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8080" y="5181480"/>
            <a:ext cx="99396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3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5181480"/>
            <a:ext cx="993600" cy="993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8080" y="5181480"/>
            <a:ext cx="99396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3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8080" y="5181480"/>
            <a:ext cx="99396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3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09480" y="609480"/>
            <a:ext cx="7925040" cy="57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3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315200" y="5181480"/>
            <a:ext cx="99360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3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315200" y="5181480"/>
            <a:ext cx="993600" cy="993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838080" y="5181480"/>
            <a:ext cx="99396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0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5181480"/>
            <a:ext cx="993600" cy="993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838080" y="5181480"/>
            <a:ext cx="99396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3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5181480"/>
            <a:ext cx="993600" cy="993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8080" y="5181480"/>
            <a:ext cx="99396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3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5181480"/>
            <a:ext cx="993600" cy="993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8080" y="5181480"/>
            <a:ext cx="99396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3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5181480"/>
            <a:ext cx="993600" cy="993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8080" y="5181480"/>
            <a:ext cx="99396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0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5181480"/>
            <a:ext cx="993600" cy="993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8080" y="5181480"/>
            <a:ext cx="99396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04:20:12Z</dcterms:created>
  <dc:creator>David Goebelbecker</dc:creator>
  <dc:description/>
  <dc:language>en-US</dc:language>
  <cp:lastModifiedBy>David Goebelbecker</cp:lastModifiedBy>
  <cp:lastPrinted>2009-03-18T12:51:54Z</cp:lastPrinted>
  <dcterms:modified xsi:type="dcterms:W3CDTF">2009-03-18T12:52:39Z</dcterms:modified>
  <cp:revision>5</cp:revision>
  <dc:subject/>
  <dc:title>PowerPoint Presentation</dc:title>
</cp:coreProperties>
</file>